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F18-7245-4D6C-B5C1-DB9661C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976-8A70-4D83-BD69-CA589F7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94E-E219-4DDB-861A-6043BDC5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640-4C81-4499-AF39-25B1604C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ADE-05D9-4AF0-B9A2-7CBBDB9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943-4374-45A0-851D-C4493F7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9AD-DA09-4F04-BBF5-266253D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1C-5B42-4C2E-BFCD-967EB29B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B34-02D4-493E-BFBB-438E168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6C8-14A1-42C4-896C-743BAF1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1D3-F808-4E81-97C1-3B51919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14A-71E9-48B4-9779-1FE5943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3C2-E3B0-4449-9474-0A047464A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’enterrement de la mère de Meursaul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Meursault aide Raymond Sintès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avec la let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a 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bizarre petite fem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 meur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’ea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 sole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7:40:36Z</dcterms:created>
  <dc:creator>Steve Badger</dc:creator>
  <dc:description/>
  <dc:language>en-US</dc:language>
  <cp:lastModifiedBy>Steve Badger</cp:lastModifiedBy>
  <dcterms:modified xsi:type="dcterms:W3CDTF">2006-08-31T17:40:55Z</dcterms:modified>
  <cp:revision>1</cp:revision>
  <dc:subject/>
  <dc:title>L’enterrement de la mère de Meursault</dc:title>
</cp:coreProperties>
</file>